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dt" idx="58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ftr" idx="59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 type="sldNum" idx="60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2465-8262-435A-9EA8-7D96C99642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AF2F-7AD4-4F86-A220-60BA8D72B9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7930-C5AC-4A4F-A632-C221F2C4F6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33F8-C965-4354-87CA-227BAF7D71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771-7331-4EAD-B398-807B7CB1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F1C-340A-4270-9626-99E70FE9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D504F-3B41-4616-A138-F0A18DAB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EA234-A995-48A7-935D-62CE73C9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79532-6B43-4289-BD9F-2785CAFA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9205D-72A8-4845-BBBC-593FCAD4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BBF4E-317E-44A3-B33B-920316BF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D813C-A671-4A8A-A0AE-BA9D7E70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6C74A-9468-41BC-B42D-4DDA79D0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6D455-FC17-40AA-9407-43583920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EAC84-87C5-4E95-BA34-5812A7C3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4996A-BC48-4F60-A81D-72D6350A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7B3-4AE0-4296-90C3-6C2E93AA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F79B7-A6BF-4E8F-8D9A-04F678DC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7E069-B4C3-44CD-8CE4-A7BC393D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A1E2E-96D7-4962-8740-BDFDDB94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2DFCD-EF8B-43E9-BA23-30EF26FA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B78868-EFEA-4A7B-944A-20E955C9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A9CD5-1700-482C-A038-197B2936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80DB8-2369-462F-B56B-D7A53078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88D80-A421-4E8F-B14C-C099C81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95233-EAB7-4772-9F3C-434CDC82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CBA02-9CAC-4E22-9E9B-CD57E3A8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C8E-9F59-4345-BCC7-AA36570B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3A37F-DE9B-4C92-868C-7ECF68F0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8E8C-F6E1-408F-9DD2-3EC97FED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F98EAA-E25B-4AC4-859F-CFB4022A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28E01B-9359-4F91-AA54-3A07F619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F1CA11-D814-4919-920C-F8016740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85D25C-4EB8-4B90-80AC-FA853A02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15CDC1-66E7-49C2-9C38-39415ABE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7FB855-4BF8-41EA-A649-48D133EC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2C9837-1403-4DD5-9972-BE7D3B17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87C7-9190-4B8C-8E5F-ED6C464C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F0C3B3-EDA4-45E2-A08D-CDBEAFF3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EB0920-7B1E-48D9-9E46-7D76D345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32AF6B-AA7F-41EA-9481-EA23CC6B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383668-7F71-4971-ADE9-1C0CB714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47A2CA-D96E-4A31-A77A-7E761651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C64F21-AF71-407C-A318-D4A93ED4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16C2FB-15CE-4BFB-B1E3-E6BA7EC7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EEA304-0C14-48DD-8E83-0A6CE4D7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EA426C-89AF-438A-BD0D-0B45D54C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7CFA84-8EC0-48AA-B867-F9EB1B88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521A-BC5B-4E40-BAE1-656892A3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FBDDD7-FC3C-4324-AAFD-4C16A222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4983F9-47D6-4374-A25D-90771C59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5989CB-551B-4B34-8BDF-FC1D42F8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507664-0CA6-4404-9FD5-F4B95195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650748-994A-404C-8B97-362C9061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07CEEE-496F-4926-97F5-2A0D3335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E30E25-55C2-4960-AE6D-B29620FA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559014-7DE2-4222-AA51-A440622C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215D35-F8A9-4349-AF59-C19C63B4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3F87F9-E46E-428C-90F1-4E3CBA35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1E44-91AA-4563-98E2-4989B2B8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F82CA9-1CB3-4F7C-AE03-885107F0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A17D7C-6BFD-4216-B873-6E1B08BE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42DFC2-EF17-4C12-A29D-04FC500F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7C62A7-CDC1-49A6-8FCC-3CBD8613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61EE0E-CF46-4AC5-9F10-9E24161D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544DC7-7A82-4C8D-8775-C39DA335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AFF1FD-02F2-4E1B-BB1E-96E8F9EE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AB179C-343D-4779-93BF-F58D6B74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3E9607-B425-4F4A-A383-76C5C3A0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BCCBB5-387D-4F8B-9EED-0DEBDFB5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98CB-C40C-4720-8753-5B370E4A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420DC7-FC80-4AFD-80C7-B54BB40D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E9BF82-6356-43F2-ABD8-B1F3AE11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BF5BB7-4B9B-4251-8768-E6AC9937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0869B5-CB61-44B8-89C8-78C63358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F465AD-3688-4E6D-9241-9FDE492C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BCA1CE-F597-4422-B525-66A708BC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AB9C43-AC78-4ACD-A04D-60F3C966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6D3A89-C490-4401-B3A5-36A29562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24AA33-23B6-4C7A-8CFE-D9144299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7956C3-9457-49EB-B7B3-A159ACFB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30CF-7EC8-47F2-BD68-3624AB74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77E03B-0704-4E1B-9F61-8C7DDF1E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724F5C-CF54-4C47-834C-55804BF0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49698E-B6BF-42EB-8FBB-0E2D78E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E4E270-2AAB-4743-BAA2-2E7971AE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9289BD-F4B7-4320-8AAA-AF8FC66D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A437C0-CF44-4F70-A563-D86FDEC7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3DC9DA-A8E6-43F9-A465-6C885643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FAB196-7641-44ED-AAAB-ECFC8A1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3FB002-8840-4751-A1F3-C45DD66D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4BD974-08AB-4E34-AC7E-884756E3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1969-8D1A-4AAC-9AD5-DBDFC07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CB1542-7F8E-45C0-B0F3-70DB51E0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1EF482-BEA4-4E98-AA83-49900FA2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F8D686-910B-4BED-95B6-010A6F34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9B0-95A2-4259-B425-EF5CE242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7480-447E-4D3C-B7E8-CB7A5579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2AC26-02E7-40F9-9406-CEB3A2F8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5ECE2-7651-4CA7-A436-CBABF072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434F81-F0E8-49FE-BA6E-6AEA7C66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91F310-F742-42D2-B9D3-607E2E0F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3C6AD-DEC5-411E-B350-616F8776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4D73-0E1E-483B-A8CB-8AF6673C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9BB91-2F9F-4120-B6EA-A0BB1325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2FE2F-BD17-4979-83E9-F402D0E4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AC482-3238-40EB-BEBD-2ED70B1F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D2AF05-CB3A-408B-BFE5-BB24702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809EF-18B1-4BDA-9BAA-E6C34F94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6926C-6AEE-4027-8A52-5648D4F6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569A62-C9A8-40A2-B238-F55C9185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973DF-218E-4D74-9A64-2BEA8BD2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1D415-0EFC-44C1-9D8D-4BF479FD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97D3B-BB65-4FDA-BB33-622A8C80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3015-0364-431E-9044-328206AD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F3D8D-0AA6-42B7-BF9E-1D60286E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50992-0E2F-4F70-B70C-BFCEE39F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4036E-FEB2-4A7B-BB7F-0FC1F848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5F44E-F7A2-4FF2-969E-B7D4E497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7AAD8-03D2-479E-9E76-DB3B5750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A5511-2606-458C-832F-0F42B51F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2FAC5D-385D-4887-86E4-35993DDB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54687-2467-40B0-B840-206A35FD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8F442-5F2D-4DB7-8E5B-6DC157AE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77AD56-E89A-498C-8C33-2E56BF80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DCC7-606D-4D64-8EFF-8116E78E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40A25-8558-4C07-A7F1-D01C1C1E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B0C410-82A5-4617-AA07-14F04C53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3E032-10D8-4A31-B7C2-BDDFEC5C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E26FF6-6869-453F-909A-94808F99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AAE758-47A1-454C-AECE-E458B408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9257A-8E34-4686-BD94-90301A1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E93837-A8C7-496E-83ED-ACA9827B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EAFFD-07A9-4241-884C-4ADFC3D7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064640-62A8-4A73-B1A5-38630C42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323DF-B29F-41EB-85CA-6A1880E5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6708-5999-433E-973F-100E729B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00A4BD-D1DE-4F4B-BCC7-3473B19D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46E183-FBCB-43A6-8C21-4093EB8E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018126-993F-48FC-BE3A-FFC27ED6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24D6F-2322-489E-99CA-98081470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FCF3C-C8D6-4BF8-B9C9-87ABC95A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676807-BCB0-400B-B422-C6EED9DC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F379AE-FE20-497B-9839-45D9F960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ACCD0-4BAA-4D25-AAC4-58F39DAA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4F7C7D-3FF2-4889-A72E-757C0AD2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35DAB-C5A7-4150-8B6A-422B0598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2F5C8-0994-4DCD-AE46-E6DD047C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E1D7C4-E513-4B36-AD48-90C9D2F5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C81C2-7C7B-4CEC-9760-8317788E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041212-C61E-4B5E-BA64-9C0410CE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65992-E37E-4752-9FA4-D90494AB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30D0-C5B6-4170-BACF-348AE045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7356-C60D-4062-83B8-722D48D6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7D827-FB39-4693-BA35-563E55BD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7C5-E40A-4BED-80C0-6A7F7CD3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B197A-5CDE-443B-B037-295F6969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9CF6-81BB-4D30-8D34-BBA17423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1EE38-D8E7-4E33-A8FC-5AF60B60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D4934-C100-4627-A68D-ECF6A536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69F5F-9D3E-4108-BDCF-A3BCFBE3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11A15-1B5F-4DA8-85A6-A451040B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D707-1059-47F2-82B9-E56ACB9A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2C5D6-6994-42E7-AA46-2DFA043C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3AE4-1D7C-4528-B2D0-EDEDAFB3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8C439-9FD2-4CEA-ADD7-26A58ED0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4E2-3F11-46DF-9F50-C1DA5F73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69132-49B3-4668-9E1E-2AB06C87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A7507-B546-4E2D-8367-C2832129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9805-5715-47FE-9EA8-ED8A5ECF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0A0D-0D92-4781-8202-75826834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F154E-2391-4365-A39E-1941FF15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6B109-8FAA-4659-BDDF-974CBFB0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A6296-83C9-4F51-BB02-C261E8DD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50A55-0A10-4DA5-B637-0F428E2A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79386-901D-4D3E-94AA-781BDA60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F4ECF-EABC-4016-8353-2C2A6CDE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6D7-C7EE-4767-BFBA-25A09866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2A9C7-D693-4B70-B8DD-39C86CEF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6E369-8767-4E26-8502-2B57B64E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7CE35-DA5E-4610-8326-B54E73AC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1FF9E-BF3C-4115-8FCA-66B59872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611F4-4B6F-40CC-ACBB-35C0E611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89602-FB80-463B-B741-D35B88DF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A1140-7D9C-4C23-855B-01F72342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FF14D-7E81-4D3F-8BF8-038091CB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262F1-D431-48F6-8AEC-DF554CF0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FF497-68A1-4C53-9482-C4EAFCA5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B45-FF82-442A-AF1A-6E154BD2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77A8B-AB38-43BE-A871-333FBE30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214B-335A-4315-85D5-6F533813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EFD116-8504-4B3A-957E-25A54DE1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E8724A-DC5B-4D31-9D37-15FD9E53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F88607-2A4F-4364-9425-B951DF21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39D898-68FB-407E-A59D-01951085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6587BC-3096-41ED-B017-0D9B0246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CFA82A-CF06-49DE-AE90-894D4ABD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FC966B-38B9-41B1-95FF-4917D11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DF2-8FE8-40FC-A9C4-62701E9A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23A5E1-2713-41D8-A581-45149A94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C6EB65-0AD7-48C6-AA52-C860B219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F53BE9-A151-42C1-94F7-46F58D2F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FA042A-34EC-4610-A6B4-AB3D78F8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92A132-3D72-439E-8456-2BF30785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C99A65-328D-4A26-81D1-12D52608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ECCC51-6A3F-4936-BFE1-962FB77B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2A2B1C-20F5-4067-AF27-C399EA05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B4E93F-D81C-4D5B-9A12-A35F214C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6D4178-A73F-45F4-9BD2-3032ED73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E26-84DE-4973-A95D-AC83A6DF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0764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70095C-FC55-43B0-BE5C-2BA904B3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D9893F-351F-4A95-A171-E13A142B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7822CA-3863-43A7-A86F-237B9FBE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3E7AA6-F5CB-4EDB-818E-675FC0FB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B69E4D-C205-49DC-AF58-4EB84F1C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AA4E54-12FF-4BB9-BA97-CEE68496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F415DC-2CE7-45CD-A537-1698319F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191E3-A30C-44F9-AC9B-0294CA40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64116-B784-4383-A34F-5F8EABC1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B9E1F-C45C-45B2-8E1E-123D892F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482A-5154-42CF-A5B3-F0086A71FC4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CF9C-D376-4509-A863-F6DE4865C5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6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21C9-634D-4917-9229-69801B28FAE7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7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8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C955-6197-445F-8D51-81A932BC2BEC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dt" idx="29"/>
          </p:nvPr>
        </p:nvSpPr>
        <p:spPr>
          <a:xfrm>
            <a:off x="0" y="6105240"/>
            <a:ext cx="153504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CA73-0CEB-4A6B-BC05-D2AD4B8ED98C}" type="datetime">
              <a:rPr b="0" lang="ru-RU" sz="2200" spc="-1" strike="noStrike">
                <a:solidFill>
                  <a:srgbClr val="1f497d"/>
                </a:solidFill>
                <a:latin typeface="Arial Narrow"/>
              </a:rPr>
              <a:t>29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dt" idx="30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F6F4-4326-456F-99B5-01415F136C62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ftr" idx="31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32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9C84-73B6-4C80-8635-1A03509404E7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442360" y="38160"/>
            <a:ext cx="609480" cy="492120"/>
          </a:xfrm>
          <a:prstGeom prst="rect">
            <a:avLst/>
          </a:prstGeom>
          <a:ln w="0">
            <a:noFill/>
          </a:ln>
        </p:spPr>
      </p:pic>
      <p:sp>
        <p:nvSpPr>
          <p:cNvPr id="525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8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9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0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ятиугольник 11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33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fbfb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17D7-6D22-4A8C-83B4-3E7DB2F0DB7C}" type="datetime">
              <a:rPr b="0" lang="ru-RU" sz="1200" spc="-1" strike="noStrike">
                <a:solidFill>
                  <a:srgbClr val="bfbfbf"/>
                </a:solidFill>
                <a:latin typeface="Arial Narrow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34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fbfb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35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5DFB-326B-4BB1-8D6A-18A827D6FAD9}" type="slidenum">
              <a:rPr b="1" lang="ru-RU" sz="14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dt" idx="36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E902-3EBA-4170-9698-825EA6B6BAE4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37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38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5D35-24CC-4B7F-84D8-979D7AFFF51B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 /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dt" idx="39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8363-B4FD-4995-BD5A-29EFA58DABA4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ftr" idx="40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41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18BB-DBB2-40A0-97CF-43A84FFA317E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656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dt" idx="42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0E90-05B4-4895-AD58-CF9D385D24CA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ftr" idx="43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44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51DE-3682-4A8F-AD0D-144FB73772EF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45"/>
          </p:nvPr>
        </p:nvSpPr>
        <p:spPr>
          <a:xfrm>
            <a:off x="0" y="6105240"/>
            <a:ext cx="153504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A963-4B40-4C0D-9C11-2646F1877E90}" type="datetime">
              <a:rPr b="0" lang="ru-RU" sz="2200" spc="-1" strike="noStrike">
                <a:solidFill>
                  <a:srgbClr val="1f497d"/>
                </a:solidFill>
                <a:latin typeface="Arial"/>
              </a:rPr>
              <a:t>29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740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46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7BEA-2100-4D50-8EA3-34A9771C1C2F}" type="datetime">
              <a:rPr b="0" lang="ru-RU" sz="1200" spc="-1" strike="noStrike">
                <a:solidFill>
                  <a:srgbClr val="1f497d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47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48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6BE2-8ACA-478F-80E8-EB167CFECA7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442360" y="38160"/>
            <a:ext cx="609480" cy="492120"/>
          </a:xfrm>
          <a:prstGeom prst="rect">
            <a:avLst/>
          </a:prstGeom>
          <a:ln w="0">
            <a:noFill/>
          </a:ln>
        </p:spPr>
      </p:pic>
      <p:sp>
        <p:nvSpPr>
          <p:cNvPr id="784" name="Прямая соединительная линия 19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ая соединительная линия 20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ая соединительная линия 21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рямая соединительная линия 22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ятиугольник 23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dt" idx="49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fbfb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C090-72E0-4AA7-81D7-679DD58BCE47}" type="datetime">
              <a:rPr b="0" lang="ru-RU" sz="1200" spc="-1" strike="noStrike">
                <a:solidFill>
                  <a:srgbClr val="bfbfbf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ftr" idx="50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fbfb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51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4FA3-959B-4BF1-935C-04DC68579A37}" type="slidenum">
              <a:rPr b="1" lang="ru-RU" sz="14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8E01-E268-418E-A63E-DAB0B05EE5C3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DB9C-D78E-4219-84B7-230173301846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833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dt" idx="52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604F-B4DD-4F36-ADA2-1D3BBB10E115}" type="datetime">
              <a:rPr b="0" lang="ru-RU" sz="1200" spc="-1" strike="noStrike">
                <a:solidFill>
                  <a:srgbClr val="1f497d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ftr" idx="53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sldNum" idx="54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7DFA-CF2B-4070-8196-9FCA4B00B1C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/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881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dt" idx="55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0AFB-C452-40B4-B862-5BFCB4F6E2EB}" type="datetime">
              <a:rPr b="0" lang="ru-RU" sz="1200" spc="-1" strike="noStrike">
                <a:solidFill>
                  <a:srgbClr val="1f497d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ftr" idx="56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sldNum" idx="57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CA5D-C56A-4D6D-A794-A5906E03D41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9E68-4C88-418C-ADBD-F39E9605F53E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287E-4FAC-4656-86E3-17F96D4E0907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32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CB55-706E-4A89-A64F-18EA48636C71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0B43-7C32-4159-9F16-3517DC88AE23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53D2-F543-4F93-96DA-B0079230ACF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82BF-1B31-4F92-A08E-99A757055134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/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6"/>
          </p:nvPr>
        </p:nvSpPr>
        <p:spPr>
          <a:xfrm>
            <a:off x="0" y="6105240"/>
            <a:ext cx="153504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FCA4-ACAA-4C18-9F8B-AEE0E731A143}" type="datetime">
              <a:rPr b="0" lang="ru-RU" sz="2200" spc="-1" strike="noStrike">
                <a:solidFill>
                  <a:srgbClr val="1f497d"/>
                </a:solidFill>
                <a:latin typeface="Arial Narrow"/>
              </a:rPr>
              <a:t>29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7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960D-0CE2-4D30-A54C-0C1DF711A340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8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9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271C-31E2-47D7-A338-A0EA26C84232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442360" y="38160"/>
            <a:ext cx="609480" cy="49212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8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9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0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ятиугольник 11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20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fbfb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B2AD-817F-4128-8F61-D7065A71C202}" type="datetime">
              <a:rPr b="0" lang="ru-RU" sz="1200" spc="-1" strike="noStrike">
                <a:solidFill>
                  <a:srgbClr val="bfbfbf"/>
                </a:solidFill>
                <a:latin typeface="Arial Narrow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21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fbfb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2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32FC-50AB-472A-BE50-0CB5444DFD34}" type="slidenum">
              <a:rPr b="1" lang="ru-RU" sz="14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ая соединительная линия 7"/>
          <p:cNvSpPr/>
          <p:nvPr/>
        </p:nvSpPr>
        <p:spPr>
          <a:xfrm>
            <a:off x="36360" y="468360"/>
            <a:ext cx="849492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8"/>
          <p:cNvSpPr/>
          <p:nvPr/>
        </p:nvSpPr>
        <p:spPr>
          <a:xfrm>
            <a:off x="36360" y="457200"/>
            <a:ext cx="547236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9"/>
          <p:cNvSpPr/>
          <p:nvPr/>
        </p:nvSpPr>
        <p:spPr>
          <a:xfrm>
            <a:off x="8950320" y="468360"/>
            <a:ext cx="14436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8442360" y="36360"/>
            <a:ext cx="609480" cy="4939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ая соединительная линия 14"/>
          <p:cNvSpPr/>
          <p:nvPr/>
        </p:nvSpPr>
        <p:spPr>
          <a:xfrm>
            <a:off x="36360" y="6600960"/>
            <a:ext cx="9071280" cy="0"/>
          </a:xfrm>
          <a:prstGeom prst="line">
            <a:avLst/>
          </a:prstGeom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5"/>
          <p:cNvSpPr/>
          <p:nvPr/>
        </p:nvSpPr>
        <p:spPr>
          <a:xfrm>
            <a:off x="1152360" y="6611760"/>
            <a:ext cx="6839280" cy="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ятиугольник 16"/>
          <p:cNvSpPr/>
          <p:nvPr/>
        </p:nvSpPr>
        <p:spPr>
          <a:xfrm flipH="1">
            <a:off x="8441640" y="6473880"/>
            <a:ext cx="701640" cy="252360"/>
          </a:xfrm>
          <a:custGeom>
            <a:avLst/>
            <a:gdLst>
              <a:gd name="textAreaLeft" fmla="*/ -360 w 701640"/>
              <a:gd name="textAreaRight" fmla="*/ 701640 w 70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5" y="0"/>
                </a:lnTo>
                <a:lnTo>
                  <a:pt x="21600" y="10800"/>
                </a:lnTo>
                <a:lnTo>
                  <a:pt x="1771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c638d"/>
              </a:gs>
              <a:gs pos="100000">
                <a:srgbClr val="123f77"/>
              </a:gs>
            </a:gsLst>
            <a:lin ang="5400000"/>
          </a:gra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23"/>
          </p:nvPr>
        </p:nvSpPr>
        <p:spPr>
          <a:xfrm>
            <a:off x="-360" y="6605280"/>
            <a:ext cx="1260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AAA8-3DD4-4833-BA6F-E39591D4E82B}" type="datetime">
              <a:rPr b="0" lang="ru-RU" sz="1200" spc="-1" strike="noStrike">
                <a:solidFill>
                  <a:srgbClr val="1f497d"/>
                </a:solidFill>
                <a:latin typeface="Arial Narrow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24"/>
          </p:nvPr>
        </p:nvSpPr>
        <p:spPr>
          <a:xfrm>
            <a:off x="1260360" y="6605280"/>
            <a:ext cx="66232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Narrow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25"/>
          </p:nvPr>
        </p:nvSpPr>
        <p:spPr>
          <a:xfrm>
            <a:off x="8459280" y="6473520"/>
            <a:ext cx="6843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4ADD-19B7-4A3A-9E6B-41D392DB883F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 /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Прямоугольник 92"/>
          <p:cNvSpPr/>
          <p:nvPr/>
        </p:nvSpPr>
        <p:spPr>
          <a:xfrm>
            <a:off x="76320" y="938160"/>
            <a:ext cx="9007200" cy="552456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3270240" y="5128920"/>
            <a:ext cx="5813280" cy="12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title"/>
          </p:nvPr>
        </p:nvSpPr>
        <p:spPr>
          <a:xfrm>
            <a:off x="344520" y="1717560"/>
            <a:ext cx="84708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OST type A"/>
              </a:rPr>
              <a:t>Приложение № 2 к протоколу НТКС № 52-2016</a:t>
            </a:r>
            <a:br>
              <a:rPr sz="6500"/>
            </a:br>
            <a:br>
              <a:rPr sz="65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дная    информация    по    финансированию, совершенствованию структуры и механизмов работы МГС в области стандарт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ля рассмотрения на    52-м    заседании Научно-технической     комиссии     по     стандартизации    МГС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(пункт    6.8. протокола МГС от 27-28 июня 2016 г. № 49-2016)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4" name="Рисунок 20" descr=""/>
          <p:cNvPicPr/>
          <p:nvPr/>
        </p:nvPicPr>
        <p:blipFill>
          <a:blip r:embed="rId1"/>
          <a:srcRect l="0" t="0" r="0" b="63848"/>
          <a:stretch/>
        </p:blipFill>
        <p:spPr>
          <a:xfrm>
            <a:off x="0" y="6437160"/>
            <a:ext cx="9144000" cy="420840"/>
          </a:xfrm>
          <a:prstGeom prst="rect">
            <a:avLst/>
          </a:prstGeom>
          <a:ln w="0">
            <a:noFill/>
          </a:ln>
        </p:spPr>
      </p:pic>
      <p:pic>
        <p:nvPicPr>
          <p:cNvPr id="935" name="Рисунок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936" name="Рисунок 86" descr=""/>
          <p:cNvPicPr/>
          <p:nvPr/>
        </p:nvPicPr>
        <p:blipFill>
          <a:blip r:embed="rId3"/>
          <a:stretch/>
        </p:blipFill>
        <p:spPr>
          <a:xfrm>
            <a:off x="7959600" y="-66600"/>
            <a:ext cx="1184400" cy="1038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2" descr="http://www.fast-print.kz/upload/iblock/b4d/b4ddf36050169d82b2df0d155206face.png"/>
          <p:cNvPicPr/>
          <p:nvPr/>
        </p:nvPicPr>
        <p:blipFill>
          <a:blip r:embed="rId4"/>
          <a:stretch/>
        </p:blipFill>
        <p:spPr>
          <a:xfrm>
            <a:off x="3284640" y="0"/>
            <a:ext cx="20811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401760" y="1844640"/>
          <a:ext cx="8532720" cy="3505320"/>
        </p:xfrm>
        <a:graphic>
          <a:graphicData uri="http://schemas.openxmlformats.org/drawingml/2006/table">
            <a:tbl>
              <a:tblPr/>
              <a:tblGrid>
                <a:gridCol w="8532720"/>
              </a:tblGrid>
              <a:tr h="398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Документы, определяющие направления развития МГС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 Соглашение о проведении согласованной политики в области стандартизации, метрологии и сертификации (от 13.03.1992 с изменениями)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. Концепция дальнейшего развития Содружества Независимых государств, одобренная Советом глав государств Содружества Независимых Государств от 05.12.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. Стратегия развития Межгосударственного совета по стандартизации, метрологии и сертификации на период до 2020 г. (МГС №34-2008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. «Дорожная карта по разработке перспективного облика МГС как региональной организации» (проек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39" name="Номер слайда 3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4150-60CA-4FC9-B6A9-E03B33621934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Прямоугольник 5"/>
          <p:cNvSpPr/>
          <p:nvPr/>
        </p:nvSpPr>
        <p:spPr>
          <a:xfrm>
            <a:off x="250920" y="260280"/>
            <a:ext cx="842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5a9e"/>
                </a:solidFill>
                <a:uFillTx/>
                <a:latin typeface="Arial"/>
              </a:rPr>
              <a:t>Миссия МГС</a:t>
            </a:r>
            <a:r>
              <a:rPr b="1" lang="ru-RU" sz="2400" spc="-1" strike="noStrike">
                <a:solidFill>
                  <a:srgbClr val="005a9e"/>
                </a:solidFill>
                <a:latin typeface="Arial"/>
              </a:rPr>
              <a:t> – снижение технических барьеров, развитие зоны свободной торговли на пространстве С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Прямая соединительная линия 6"/>
          <p:cNvSpPr/>
          <p:nvPr/>
        </p:nvSpPr>
        <p:spPr>
          <a:xfrm>
            <a:off x="122400" y="1628640"/>
            <a:ext cx="8928000" cy="0"/>
          </a:xfrm>
          <a:prstGeom prst="line">
            <a:avLst/>
          </a:prstGeom>
          <a:ln w="1908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Прямая соединительная линия 8"/>
          <p:cNvSpPr/>
          <p:nvPr/>
        </p:nvSpPr>
        <p:spPr>
          <a:xfrm>
            <a:off x="122400" y="5661000"/>
            <a:ext cx="8928000" cy="0"/>
          </a:xfrm>
          <a:prstGeom prst="line">
            <a:avLst/>
          </a:prstGeom>
          <a:ln w="1908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Прямоугольник 3"/>
          <p:cNvSpPr/>
          <p:nvPr/>
        </p:nvSpPr>
        <p:spPr>
          <a:xfrm>
            <a:off x="250920" y="3650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576"/>
                </a:solidFill>
                <a:latin typeface="GOST type A"/>
              </a:rPr>
              <a:t>История во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37"/>
          <p:cNvGrpSpPr/>
          <p:nvPr/>
        </p:nvGrpSpPr>
        <p:grpSpPr>
          <a:xfrm>
            <a:off x="28440" y="1268280"/>
            <a:ext cx="9115560" cy="4971960"/>
            <a:chOff x="28440" y="1268280"/>
            <a:chExt cx="9115560" cy="4971960"/>
          </a:xfrm>
        </p:grpSpPr>
        <p:pic>
          <p:nvPicPr>
            <p:cNvPr id="945" name="Picture 4" descr="EASC-C"/>
            <p:cNvPicPr/>
            <p:nvPr/>
          </p:nvPicPr>
          <p:blipFill>
            <a:blip r:embed="rId1"/>
            <a:stretch/>
          </p:blipFill>
          <p:spPr>
            <a:xfrm>
              <a:off x="28440" y="5578200"/>
              <a:ext cx="7272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Picture 4" descr="EASC-C"/>
            <p:cNvPicPr/>
            <p:nvPr/>
          </p:nvPicPr>
          <p:blipFill>
            <a:blip r:embed="rId2"/>
            <a:stretch/>
          </p:blipFill>
          <p:spPr>
            <a:xfrm>
              <a:off x="5867280" y="1268280"/>
              <a:ext cx="728640" cy="6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4" descr=""/>
            <p:cNvPicPr/>
            <p:nvPr/>
          </p:nvPicPr>
          <p:blipFill>
            <a:blip r:embed="rId3"/>
            <a:stretch/>
          </p:blipFill>
          <p:spPr>
            <a:xfrm>
              <a:off x="7178760" y="1290240"/>
              <a:ext cx="185724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5"/>
            <p:cNvSpPr/>
            <p:nvPr/>
          </p:nvSpPr>
          <p:spPr>
            <a:xfrm>
              <a:off x="6595920" y="1269720"/>
              <a:ext cx="50328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596d2d"/>
                  </a:solidFill>
                  <a:latin typeface="Arial"/>
                </a:rPr>
                <a:t>~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Прямая соединительная линия 7"/>
            <p:cNvSpPr/>
            <p:nvPr/>
          </p:nvSpPr>
          <p:spPr>
            <a:xfrm>
              <a:off x="828720" y="590832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Прямая соединительная линия 9"/>
            <p:cNvSpPr/>
            <p:nvPr/>
          </p:nvSpPr>
          <p:spPr>
            <a:xfrm flipV="1">
              <a:off x="2124000" y="5250960"/>
              <a:ext cx="0" cy="657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Прямая соединительная линия 10"/>
            <p:cNvSpPr/>
            <p:nvPr/>
          </p:nvSpPr>
          <p:spPr>
            <a:xfrm>
              <a:off x="2124000" y="5262120"/>
              <a:ext cx="129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Box 11"/>
            <p:cNvSpPr/>
            <p:nvPr/>
          </p:nvSpPr>
          <p:spPr>
            <a:xfrm>
              <a:off x="539640" y="4890960"/>
              <a:ext cx="1656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овершенствование планирования работ в МГ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Box 12"/>
            <p:cNvSpPr/>
            <p:nvPr/>
          </p:nvSpPr>
          <p:spPr>
            <a:xfrm>
              <a:off x="2124000" y="4462200"/>
              <a:ext cx="1584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зменени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олос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Прямая соединительная линия 13"/>
            <p:cNvSpPr/>
            <p:nvPr/>
          </p:nvSpPr>
          <p:spPr>
            <a:xfrm flipV="1">
              <a:off x="3390840" y="4604760"/>
              <a:ext cx="0" cy="657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Прямая соединительная линия 14"/>
            <p:cNvSpPr/>
            <p:nvPr/>
          </p:nvSpPr>
          <p:spPr>
            <a:xfrm>
              <a:off x="3348000" y="460512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Прямая соединительная линия 15"/>
            <p:cNvSpPr/>
            <p:nvPr/>
          </p:nvSpPr>
          <p:spPr>
            <a:xfrm flipV="1">
              <a:off x="4632480" y="3947760"/>
              <a:ext cx="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6"/>
            <p:cNvSpPr/>
            <p:nvPr/>
          </p:nvSpPr>
          <p:spPr>
            <a:xfrm>
              <a:off x="3348000" y="394776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вентариз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Т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Прямая соединительная линия 17"/>
            <p:cNvSpPr/>
            <p:nvPr/>
          </p:nvSpPr>
          <p:spPr>
            <a:xfrm>
              <a:off x="4632480" y="3947760"/>
              <a:ext cx="129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Box 18"/>
            <p:cNvSpPr/>
            <p:nvPr/>
          </p:nvSpPr>
          <p:spPr>
            <a:xfrm>
              <a:off x="4632480" y="2587320"/>
              <a:ext cx="13158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зме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ряд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олосования (в МТК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величение численности Бюр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Прямая соединительная линия 19"/>
            <p:cNvSpPr/>
            <p:nvPr/>
          </p:nvSpPr>
          <p:spPr>
            <a:xfrm flipV="1">
              <a:off x="5899320" y="3290400"/>
              <a:ext cx="0" cy="657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Прямая соединительная линия 20"/>
            <p:cNvSpPr/>
            <p:nvPr/>
          </p:nvSpPr>
          <p:spPr>
            <a:xfrm>
              <a:off x="5867280" y="3284280"/>
              <a:ext cx="25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Прямая соединительная линия 21"/>
            <p:cNvSpPr/>
            <p:nvPr/>
          </p:nvSpPr>
          <p:spPr>
            <a:xfrm flipV="1">
              <a:off x="8459640" y="1977480"/>
              <a:ext cx="0" cy="131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Box 22"/>
            <p:cNvSpPr/>
            <p:nvPr/>
          </p:nvSpPr>
          <p:spPr>
            <a:xfrm>
              <a:off x="5872320" y="2398320"/>
              <a:ext cx="239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работка и согласование новой структуры МГС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овых принципов финансир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Прямая соединительная линия 26"/>
            <p:cNvSpPr/>
            <p:nvPr/>
          </p:nvSpPr>
          <p:spPr>
            <a:xfrm flipV="1">
              <a:off x="2124000" y="1929960"/>
              <a:ext cx="0" cy="3332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Прямая соединительная линия 32"/>
            <p:cNvSpPr/>
            <p:nvPr/>
          </p:nvSpPr>
          <p:spPr>
            <a:xfrm flipV="1">
              <a:off x="3348000" y="1939680"/>
              <a:ext cx="0" cy="3332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Прямая соединительная линия 33"/>
            <p:cNvSpPr/>
            <p:nvPr/>
          </p:nvSpPr>
          <p:spPr>
            <a:xfrm flipV="1">
              <a:off x="4643280" y="2017080"/>
              <a:ext cx="0" cy="2513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Прямая соединительная линия 35"/>
            <p:cNvSpPr/>
            <p:nvPr/>
          </p:nvSpPr>
          <p:spPr>
            <a:xfrm flipV="1">
              <a:off x="5867280" y="1977480"/>
              <a:ext cx="0" cy="1297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Box 38"/>
            <p:cNvSpPr/>
            <p:nvPr/>
          </p:nvSpPr>
          <p:spPr>
            <a:xfrm>
              <a:off x="612720" y="1941120"/>
              <a:ext cx="136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014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Box 39"/>
            <p:cNvSpPr/>
            <p:nvPr/>
          </p:nvSpPr>
          <p:spPr>
            <a:xfrm>
              <a:off x="2197080" y="1977840"/>
              <a:ext cx="122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015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Box 40"/>
            <p:cNvSpPr/>
            <p:nvPr/>
          </p:nvSpPr>
          <p:spPr>
            <a:xfrm>
              <a:off x="3390840" y="1977840"/>
              <a:ext cx="125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015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Box 41"/>
            <p:cNvSpPr/>
            <p:nvPr/>
          </p:nvSpPr>
          <p:spPr>
            <a:xfrm>
              <a:off x="4632480" y="19810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016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Box 42"/>
            <p:cNvSpPr/>
            <p:nvPr/>
          </p:nvSpPr>
          <p:spPr>
            <a:xfrm>
              <a:off x="5948280" y="1987200"/>
              <a:ext cx="22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017-2020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32"/>
            <p:cNvSpPr/>
            <p:nvPr/>
          </p:nvSpPr>
          <p:spPr>
            <a:xfrm>
              <a:off x="900000" y="6114960"/>
              <a:ext cx="806472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33"/>
            <p:cNvSpPr/>
            <p:nvPr/>
          </p:nvSpPr>
          <p:spPr>
            <a:xfrm>
              <a:off x="5867280" y="3955680"/>
              <a:ext cx="0" cy="2159280"/>
            </a:xfrm>
            <a:prstGeom prst="line">
              <a:avLst/>
            </a:prstGeom>
            <a:ln w="25560">
              <a:solidFill>
                <a:srgbClr val="8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34"/>
            <p:cNvSpPr/>
            <p:nvPr/>
          </p:nvSpPr>
          <p:spPr>
            <a:xfrm>
              <a:off x="2268360" y="5611680"/>
              <a:ext cx="34560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8a0407"/>
                  </a:solidFill>
                  <a:latin typeface="Arial"/>
                </a:rPr>
                <a:t>1 эта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35"/>
            <p:cNvSpPr/>
            <p:nvPr/>
          </p:nvSpPr>
          <p:spPr>
            <a:xfrm>
              <a:off x="5796000" y="5611680"/>
              <a:ext cx="334800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8a0407"/>
                  </a:solidFill>
                  <a:latin typeface="Arial"/>
                </a:rPr>
                <a:t>2 эта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7" name="Rectangle 166"/>
          <p:cNvSpPr/>
          <p:nvPr/>
        </p:nvSpPr>
        <p:spPr>
          <a:xfrm>
            <a:off x="5948280" y="3429000"/>
            <a:ext cx="2874960" cy="2149560"/>
          </a:xfrm>
          <a:prstGeom prst="rect">
            <a:avLst/>
          </a:prstGeom>
          <a:solidFill>
            <a:srgbClr val="eff4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 Narrow"/>
              </a:rPr>
              <a:t>Наличие единых под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 Narrow"/>
              </a:rPr>
              <a:t>к стратегии деятельности М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 Narrow"/>
              </a:rPr>
              <a:t>как регион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 Narrow"/>
              </a:rPr>
              <a:t>организации по стандарт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Дата 1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Номер слайда 3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CA8D-FC42-4D0A-B408-4BB3113858A8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GOST type A"/>
              </a:rPr>
              <a:t>О выполнении решений 2-го ВС МГС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81" name="Text Box 22"/>
          <p:cNvSpPr/>
          <p:nvPr/>
        </p:nvSpPr>
        <p:spPr>
          <a:xfrm>
            <a:off x="324000" y="907920"/>
            <a:ext cx="8496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Обобщенные предложения Республики Беларусь по совершенствованию структуры МГС и методологии межгосударственной стандарт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Скругленный прямоугольник 19"/>
          <p:cNvSpPr/>
          <p:nvPr/>
        </p:nvSpPr>
        <p:spPr>
          <a:xfrm>
            <a:off x="1332000" y="2852640"/>
            <a:ext cx="6912000" cy="505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1. Введение ГОСТ 1.0, ГОСТ 1.2, ГОСТ 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Скругленный прямоугольник 19"/>
          <p:cNvSpPr/>
          <p:nvPr/>
        </p:nvSpPr>
        <p:spPr>
          <a:xfrm>
            <a:off x="611280" y="1916280"/>
            <a:ext cx="6912000" cy="722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Активизация работ по выполнению запланированных мероприятий</a:t>
            </a:r>
            <a:r>
              <a:rPr b="1" lang="en-US" sz="1600" spc="-1" strike="noStrike">
                <a:solidFill>
                  <a:srgbClr val="005a9e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Скругленный прямоугольник 19"/>
          <p:cNvSpPr/>
          <p:nvPr/>
        </p:nvSpPr>
        <p:spPr>
          <a:xfrm>
            <a:off x="1332000" y="3429000"/>
            <a:ext cx="6912000" cy="576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2. Завершение работы по аккредитации Указателя МТ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Скругленный прямоугольник 19"/>
          <p:cNvSpPr/>
          <p:nvPr/>
        </p:nvSpPr>
        <p:spPr>
          <a:xfrm>
            <a:off x="1332000" y="4076640"/>
            <a:ext cx="691200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3. Осуществление планирования и разработки стандартов в рамках МТ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Скругленный прямоугольник 19"/>
          <p:cNvSpPr/>
          <p:nvPr/>
        </p:nvSpPr>
        <p:spPr>
          <a:xfrm>
            <a:off x="1332000" y="4869000"/>
            <a:ext cx="6913440" cy="1368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4. Разработка документов для создания правовой основы распространения межгосударственных стандартов, упорядочения процесса их распространения, обеспечение привлечения дополнительных финансовых сред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7" name="AutoShape 36"/>
          <p:cNvCxnSpPr>
            <a:endCxn id="982" idx="1"/>
          </p:cNvCxnSpPr>
          <p:nvPr/>
        </p:nvCxnSpPr>
        <p:spPr>
          <a:xfrm flipH="1" flipV="1" rot="10800000">
            <a:off x="610920" y="2277000"/>
            <a:ext cx="721440" cy="82764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88" name="AutoShape 37"/>
          <p:cNvCxnSpPr/>
          <p:nvPr/>
        </p:nvCxnSpPr>
        <p:spPr>
          <a:xfrm flipH="1" flipV="1" rot="10800000">
            <a:off x="610920" y="2278080"/>
            <a:ext cx="721440" cy="144036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89" name="AutoShape 38"/>
          <p:cNvCxnSpPr/>
          <p:nvPr/>
        </p:nvCxnSpPr>
        <p:spPr>
          <a:xfrm flipH="1" flipV="1" rot="10800000">
            <a:off x="610920" y="2277000"/>
            <a:ext cx="721440" cy="215964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90" name="AutoShape 39"/>
          <p:cNvCxnSpPr/>
          <p:nvPr/>
        </p:nvCxnSpPr>
        <p:spPr>
          <a:xfrm flipH="1" flipV="1" rot="10800000">
            <a:off x="610920" y="2277000"/>
            <a:ext cx="721440" cy="327564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Дата 1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Номер слайда 3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352F-5608-4B12-A9A1-81F039F7E1DE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GOST type A"/>
              </a:rPr>
              <a:t>О выполнении решений 2-го ВС МГС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24000" y="907920"/>
            <a:ext cx="8496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Обобщенные предложения Республики Казахстан по совершенствованию структуры МГС и методологии межгосударственной стандарт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Скругленный прямоугольник 19"/>
          <p:cNvSpPr/>
          <p:nvPr/>
        </p:nvSpPr>
        <p:spPr>
          <a:xfrm>
            <a:off x="1332000" y="2852640"/>
            <a:ext cx="6912000" cy="505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1. Провести оптимизацию заседаний РГ или учредить соответствующий МТ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Скругленный прямоугольник 19"/>
          <p:cNvSpPr/>
          <p:nvPr/>
        </p:nvSpPr>
        <p:spPr>
          <a:xfrm>
            <a:off x="611280" y="1916280"/>
            <a:ext cx="6912000" cy="722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Совершенствование работ по направлению стандартизация </a:t>
            </a:r>
            <a:r>
              <a:rPr b="1" lang="en-US" sz="1600" spc="-1" strike="noStrike">
                <a:solidFill>
                  <a:srgbClr val="005a9e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Скругленный прямоугольник 19"/>
          <p:cNvSpPr/>
          <p:nvPr/>
        </p:nvSpPr>
        <p:spPr>
          <a:xfrm>
            <a:off x="1332000" y="3429000"/>
            <a:ext cx="6912000" cy="576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2. Усилить контроль и координацию за деятельностью МТ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Скругленный прямоугольник 19"/>
          <p:cNvSpPr/>
          <p:nvPr/>
        </p:nvSpPr>
        <p:spPr>
          <a:xfrm>
            <a:off x="1332000" y="4076640"/>
            <a:ext cx="691200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3. Проводить мониторинг и своевременно выявлять дублирующие темы в П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Скругленный прямоугольник 19"/>
          <p:cNvSpPr/>
          <p:nvPr/>
        </p:nvSpPr>
        <p:spPr>
          <a:xfrm>
            <a:off x="1332000" y="4869000"/>
            <a:ext cx="6913440" cy="64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4. Закрепить ведение и администрирование АИС МГС за бюро по стандартам МГ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0" name="AutoShape 11"/>
          <p:cNvCxnSpPr>
            <a:endCxn id="995" idx="1"/>
          </p:cNvCxnSpPr>
          <p:nvPr/>
        </p:nvCxnSpPr>
        <p:spPr>
          <a:xfrm flipH="1" flipV="1" rot="10800000">
            <a:off x="610920" y="2277000"/>
            <a:ext cx="721440" cy="82764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01" name="AutoShape 12"/>
          <p:cNvCxnSpPr/>
          <p:nvPr/>
        </p:nvCxnSpPr>
        <p:spPr>
          <a:xfrm flipH="1" flipV="1" rot="10800000">
            <a:off x="610920" y="2278080"/>
            <a:ext cx="721440" cy="144036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02" name="AutoShape 13"/>
          <p:cNvCxnSpPr/>
          <p:nvPr/>
        </p:nvCxnSpPr>
        <p:spPr>
          <a:xfrm flipH="1" flipV="1" rot="10800000">
            <a:off x="610920" y="2277000"/>
            <a:ext cx="721440" cy="215964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03" name="AutoShape 14"/>
          <p:cNvCxnSpPr/>
          <p:nvPr/>
        </p:nvCxnSpPr>
        <p:spPr>
          <a:xfrm flipH="1" flipV="1" rot="10800000">
            <a:off x="610920" y="2278080"/>
            <a:ext cx="721440" cy="291492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1004" name="Скругленный прямоугольник 19"/>
          <p:cNvSpPr/>
          <p:nvPr/>
        </p:nvSpPr>
        <p:spPr>
          <a:xfrm>
            <a:off x="1332000" y="5589720"/>
            <a:ext cx="6913440" cy="720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5. Установить отчисления от продаж станда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5" name="AutoShape 16"/>
          <p:cNvCxnSpPr/>
          <p:nvPr/>
        </p:nvCxnSpPr>
        <p:spPr>
          <a:xfrm flipH="1" flipV="1" rot="10800000">
            <a:off x="610920" y="2277720"/>
            <a:ext cx="721440" cy="3672720"/>
          </a:xfrm>
          <a:prstGeom prst="bentConnector3">
            <a:avLst>
              <a:gd name="adj1" fmla="val -3170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Дата 1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Номер слайда 3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5A55-6397-4424-93F4-C184810BB6B6}" type="slidenum">
              <a:rPr b="1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0764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GOST type A"/>
              </a:rPr>
              <a:t>2 этап. Состояние вопроса</a:t>
            </a:r>
            <a:endParaRPr b="1" lang="en-US" sz="2400" spc="-1" strike="noStrike">
              <a:solidFill>
                <a:srgbClr val="1f497d"/>
              </a:solidFill>
              <a:latin typeface="Arial Narrow"/>
            </a:endParaRPr>
          </a:p>
        </p:txBody>
      </p:sp>
      <p:sp>
        <p:nvSpPr>
          <p:cNvPr id="1009" name="Скругленный прямоугольник 7"/>
          <p:cNvSpPr/>
          <p:nvPr/>
        </p:nvSpPr>
        <p:spPr>
          <a:xfrm>
            <a:off x="4691160" y="784080"/>
            <a:ext cx="4176720" cy="4034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Повышение роли МТ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9e"/>
                </a:solidFill>
                <a:latin typeface="Arial"/>
              </a:rPr>
              <a:t>(ГОСТ 1.2-2015, ГОСТ 1.4-2015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9e"/>
                </a:solidFill>
                <a:latin typeface="Arial"/>
              </a:rPr>
              <a:t>ПМГ 22-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Созд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базы экспе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9e"/>
                </a:solidFill>
                <a:latin typeface="Arial"/>
              </a:rPr>
              <a:t>(связь с промышленностью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Синхронизация работ в национальных системах и межгосударственной системе стандарт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Скругленный прямоугольник 9"/>
          <p:cNvSpPr/>
          <p:nvPr/>
        </p:nvSpPr>
        <p:spPr>
          <a:xfrm>
            <a:off x="176040" y="520560"/>
            <a:ext cx="3507120" cy="16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МТК практически не уча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(возросшее количество принимаемых стандарт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Дублирование тем в ПМ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Скругленный прямоугольник 10"/>
          <p:cNvSpPr/>
          <p:nvPr/>
        </p:nvSpPr>
        <p:spPr>
          <a:xfrm>
            <a:off x="123840" y="2224080"/>
            <a:ext cx="3559320" cy="186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Разрабо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МТК практически не уча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Отсутствие замечаний и предложений к проектам стандартов  на стад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Первая редакция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Скругленный прямоугольник 11"/>
          <p:cNvSpPr/>
          <p:nvPr/>
        </p:nvSpPr>
        <p:spPr>
          <a:xfrm>
            <a:off x="123840" y="4116240"/>
            <a:ext cx="3559320" cy="24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Голос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МТК практически не уча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Затягивание сроков голосования из-за появления замечаний и предложений к проектам стандартов на стад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Голосование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риски срывов выполнения контра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Стрелка вниз 12"/>
          <p:cNvGrpSpPr/>
          <p:nvPr/>
        </p:nvGrpSpPr>
        <p:grpSpPr>
          <a:xfrm>
            <a:off x="1663560" y="1616040"/>
            <a:ext cx="530280" cy="189000"/>
            <a:chOff x="1663560" y="1616040"/>
            <a:chExt cx="530280" cy="189000"/>
          </a:xfrm>
        </p:grpSpPr>
        <p:pic>
          <p:nvPicPr>
            <p:cNvPr id="1014" name="Стрелка вниз 12" descr=""/>
            <p:cNvPicPr/>
            <p:nvPr/>
          </p:nvPicPr>
          <p:blipFill>
            <a:blip r:embed="rId1"/>
            <a:stretch/>
          </p:blipFill>
          <p:spPr>
            <a:xfrm>
              <a:off x="1663560" y="1616040"/>
              <a:ext cx="5302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"/>
            <p:cNvSpPr/>
            <p:nvPr/>
          </p:nvSpPr>
          <p:spPr>
            <a:xfrm>
              <a:off x="1822320" y="1636560"/>
              <a:ext cx="2127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Стрелка вниз 13"/>
          <p:cNvGrpSpPr/>
          <p:nvPr/>
        </p:nvGrpSpPr>
        <p:grpSpPr>
          <a:xfrm>
            <a:off x="1639800" y="2889360"/>
            <a:ext cx="530280" cy="188640"/>
            <a:chOff x="1639800" y="2889360"/>
            <a:chExt cx="530280" cy="188640"/>
          </a:xfrm>
        </p:grpSpPr>
        <p:pic>
          <p:nvPicPr>
            <p:cNvPr id="1017" name="Стрелка вниз 13" descr=""/>
            <p:cNvPicPr/>
            <p:nvPr/>
          </p:nvPicPr>
          <p:blipFill>
            <a:blip r:embed="rId2"/>
            <a:stretch/>
          </p:blipFill>
          <p:spPr>
            <a:xfrm>
              <a:off x="1639800" y="2889360"/>
              <a:ext cx="53028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/>
            <p:cNvSpPr/>
            <p:nvPr/>
          </p:nvSpPr>
          <p:spPr>
            <a:xfrm>
              <a:off x="1797120" y="2909880"/>
              <a:ext cx="21276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Стрелка вниз 14"/>
          <p:cNvGrpSpPr/>
          <p:nvPr/>
        </p:nvGrpSpPr>
        <p:grpSpPr>
          <a:xfrm>
            <a:off x="1639800" y="4761000"/>
            <a:ext cx="530280" cy="189000"/>
            <a:chOff x="1639800" y="4761000"/>
            <a:chExt cx="530280" cy="189000"/>
          </a:xfrm>
        </p:grpSpPr>
        <p:pic>
          <p:nvPicPr>
            <p:cNvPr id="1020" name="Стрелка вниз 14" descr=""/>
            <p:cNvPicPr/>
            <p:nvPr/>
          </p:nvPicPr>
          <p:blipFill>
            <a:blip r:embed="rId3"/>
            <a:stretch/>
          </p:blipFill>
          <p:spPr>
            <a:xfrm>
              <a:off x="1639800" y="4761000"/>
              <a:ext cx="5302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"/>
            <p:cNvSpPr/>
            <p:nvPr/>
          </p:nvSpPr>
          <p:spPr>
            <a:xfrm>
              <a:off x="1797120" y="4782960"/>
              <a:ext cx="2127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AutoShape 10"/>
          <p:cNvGrpSpPr/>
          <p:nvPr/>
        </p:nvGrpSpPr>
        <p:grpSpPr>
          <a:xfrm>
            <a:off x="4024440" y="647640"/>
            <a:ext cx="555480" cy="5570280"/>
            <a:chOff x="4024440" y="647640"/>
            <a:chExt cx="555480" cy="5570280"/>
          </a:xfrm>
        </p:grpSpPr>
        <p:pic>
          <p:nvPicPr>
            <p:cNvPr id="1023" name="AutoShape 10" descr=""/>
            <p:cNvPicPr/>
            <p:nvPr/>
          </p:nvPicPr>
          <p:blipFill>
            <a:blip r:embed="rId4"/>
            <a:stretch/>
          </p:blipFill>
          <p:spPr>
            <a:xfrm>
              <a:off x="4024440" y="647640"/>
              <a:ext cx="555480" cy="55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Text Box 52"/>
            <p:cNvSpPr/>
            <p:nvPr/>
          </p:nvSpPr>
          <p:spPr>
            <a:xfrm rot="5400000">
              <a:off x="2788560" y="3306600"/>
              <a:ext cx="2771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Скругленный прямоугольник 19"/>
          <p:cNvSpPr/>
          <p:nvPr/>
        </p:nvSpPr>
        <p:spPr>
          <a:xfrm>
            <a:off x="4799160" y="5167440"/>
            <a:ext cx="4106880" cy="125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b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a9e"/>
                </a:solidFill>
                <a:latin typeface="Arial"/>
              </a:rPr>
              <a:t>Развитие МГС как региональной организации по стандарт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41"/>
          <p:cNvSpPr/>
          <p:nvPr/>
        </p:nvSpPr>
        <p:spPr>
          <a:xfrm>
            <a:off x="123840" y="1916280"/>
            <a:ext cx="424332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Проведение заседаний Совета и образованных Советом рабочих орга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Организация выполнения решений и поручений Со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Подготовка отчетов о работе Совета и Бюро по стандар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Регистрация и хранение принятых межгосударственных норматив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Регистрация МТ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Организация выпуска каталогов  межгосударственных стандартов и других информационных 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Выполнения функций депозитария документов МГ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41"/>
          <p:cNvSpPr/>
          <p:nvPr/>
        </p:nvSpPr>
        <p:spPr>
          <a:xfrm>
            <a:off x="123840" y="836640"/>
            <a:ext cx="4243320" cy="576360"/>
          </a:xfrm>
          <a:prstGeom prst="rect">
            <a:avLst/>
          </a:prstGeom>
          <a:gradFill rotWithShape="0">
            <a:gsLst>
              <a:gs pos="0">
                <a:srgbClr val="6c9ada"/>
              </a:gs>
              <a:gs pos="100000">
                <a:srgbClr val="3d7b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орд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41"/>
          <p:cNvSpPr/>
          <p:nvPr/>
        </p:nvSpPr>
        <p:spPr>
          <a:xfrm>
            <a:off x="4708440" y="1574640"/>
            <a:ext cx="41054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Формирование приоритетных направлений работ по межгосударственной стандар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Формирование ПМС , перспективных целевых программ, мониторинг и координация их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Организация голосования по проектам  межгосударственных норматив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Методическое руководство, координация и мониторинг  деятельности МТ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Ведение указателя и портала МТ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Формирование и ведение базы данных экспертов по стандар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Информационно-справочное обслуживание участников работ  по межгосударственной стандар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Взаимодействие с международными и региональными организациями по стандартизации в соответствии с  заключенными Советом согла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Подготовка аналитических 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Организация обучения экспер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41"/>
          <p:cNvSpPr/>
          <p:nvPr/>
        </p:nvSpPr>
        <p:spPr>
          <a:xfrm>
            <a:off x="4718160" y="836640"/>
            <a:ext cx="4105080" cy="576360"/>
          </a:xfrm>
          <a:prstGeom prst="rect">
            <a:avLst/>
          </a:prstGeom>
          <a:solidFill>
            <a:srgbClr val="6691c6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Прямоугольник 12" descr=""/>
          <p:cNvPicPr/>
          <p:nvPr/>
        </p:nvPicPr>
        <p:blipFill>
          <a:blip r:embed="rId1"/>
          <a:stretch/>
        </p:blipFill>
        <p:spPr>
          <a:xfrm>
            <a:off x="249120" y="-36360"/>
            <a:ext cx="8712360" cy="645840"/>
          </a:xfrm>
          <a:prstGeom prst="rect">
            <a:avLst/>
          </a:prstGeom>
          <a:ln w="0">
            <a:noFill/>
          </a:ln>
        </p:spPr>
      </p:pic>
      <p:sp>
        <p:nvSpPr>
          <p:cNvPr id="1031" name="Прямая соединительная линия 21"/>
          <p:cNvSpPr/>
          <p:nvPr/>
        </p:nvSpPr>
        <p:spPr>
          <a:xfrm>
            <a:off x="214200" y="692280"/>
            <a:ext cx="8929800" cy="0"/>
          </a:xfrm>
          <a:prstGeom prst="line">
            <a:avLst/>
          </a:prstGeom>
          <a:ln w="1908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омер слайда 1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4D38-17EA-4993-B685-B8AAF343AB84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Номер слайда 1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79F4-60C6-4028-BD3A-244B2397AD3B}" type="slidenum">
              <a:rPr b="1" lang="ru-RU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Заголовок 4"/>
          <p:cNvSpPr/>
          <p:nvPr/>
        </p:nvSpPr>
        <p:spPr>
          <a:xfrm>
            <a:off x="0" y="176040"/>
            <a:ext cx="9107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GOST type A"/>
              </a:rPr>
              <a:t>Финансовое обеспечение.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Дата 12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Дата 12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Дата 7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Нижний колонтитул 8"/>
          <p:cNvSpPr/>
          <p:nvPr/>
        </p:nvSpPr>
        <p:spPr>
          <a:xfrm>
            <a:off x="1260360" y="6605640"/>
            <a:ext cx="6623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206280" y="1044720"/>
          <a:ext cx="8642520" cy="2379600"/>
        </p:xfrm>
        <a:graphic>
          <a:graphicData uri="http://schemas.openxmlformats.org/drawingml/2006/table">
            <a:tbl>
              <a:tblPr/>
              <a:tblGrid>
                <a:gridCol w="8642520"/>
              </a:tblGrid>
              <a:tr h="577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оссийская Федерация выступает </a:t>
                      </a: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«ЗА»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7780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	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становление отчислений в пользу региональной организации по стандартизаци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4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	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истематизацию правил распространения межгосударственных стандартов на 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	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ерритории С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577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	</a:t>
                      </a:r>
                      <a:r>
                        <a:rPr b="0" i="1" lang="ru-RU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охранение существующего размера членских взносов на уровне14 000 $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  <p:sp>
        <p:nvSpPr>
          <p:cNvPr id="1040" name="Заголовок 1"/>
          <p:cNvSpPr/>
          <p:nvPr/>
        </p:nvSpPr>
        <p:spPr>
          <a:xfrm>
            <a:off x="351000" y="34941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дполагаемый объем дополнительного финансир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1" name=""/>
          <p:cNvGraphicFramePr/>
          <p:nvPr/>
        </p:nvGraphicFramePr>
        <p:xfrm>
          <a:off x="246240" y="4141800"/>
          <a:ext cx="8642160" cy="1609560"/>
        </p:xfrm>
        <a:graphic>
          <a:graphicData uri="http://schemas.openxmlformats.org/drawingml/2006/table">
            <a:tbl>
              <a:tblPr/>
              <a:tblGrid>
                <a:gridCol w="4857480"/>
                <a:gridCol w="3784680"/>
              </a:tblGrid>
              <a:tr h="94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сточник дополнительного финанс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8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озможные отчисления из расчета 10 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48dd4"/>
                    </a:solidFill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тчисления в % от продажи стандартов ГОСТ (по аналогии с ИСО и МЭ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~ 100 000 $ 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Дата 1"/>
          <p:cNvSpPr/>
          <p:nvPr/>
        </p:nvSpPr>
        <p:spPr>
          <a:xfrm>
            <a:off x="0" y="6605640"/>
            <a:ext cx="1260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D1D3-6B07-466E-BDE9-4D7A447E17C5}" type="datetime">
              <a:rPr b="0" lang="ru-RU" sz="1200" spc="-1" strike="noStrike">
                <a:solidFill>
                  <a:srgbClr val="1f497d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Нижний колонтитул 2"/>
          <p:cNvSpPr/>
          <p:nvPr/>
        </p:nvSpPr>
        <p:spPr>
          <a:xfrm>
            <a:off x="1260360" y="6605640"/>
            <a:ext cx="6623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Стратегия развития Рос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Заголовок 1" descr=""/>
          <p:cNvPicPr/>
          <p:nvPr/>
        </p:nvPicPr>
        <p:blipFill>
          <a:blip r:embed="rId1"/>
          <a:stretch/>
        </p:blipFill>
        <p:spPr>
          <a:xfrm>
            <a:off x="36360" y="0"/>
            <a:ext cx="910764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5" name=""/>
          <p:cNvGraphicFramePr/>
          <p:nvPr/>
        </p:nvGraphicFramePr>
        <p:xfrm>
          <a:off x="287280" y="620640"/>
          <a:ext cx="8532720" cy="4548240"/>
        </p:xfrm>
        <a:graphic>
          <a:graphicData uri="http://schemas.openxmlformats.org/drawingml/2006/table">
            <a:tbl>
              <a:tblPr/>
              <a:tblGrid>
                <a:gridCol w="85327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1160"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48dd4"/>
                          </a:solidFill>
                          <a:latin typeface="Times New Roman"/>
                        </a:rPr>
                        <a:t>Предложение в протокол 49 МГС, п.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548dd4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48dd4"/>
                          </a:solidFill>
                          <a:latin typeface="Times New Roman"/>
                        </a:rPr>
                        <a:t>Принять к сведению предложения национальных органов по финансированию, совершенствованию структуры и механизмов работы МГС в области стандарт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548dd4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48dd4"/>
                          </a:solidFill>
                          <a:latin typeface="Times New Roman"/>
                        </a:rPr>
                        <a:t>Отметить предложения по поддержке создания новой структуры МГ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548dd4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48dd4"/>
                          </a:solidFill>
                          <a:latin typeface="Times New Roman"/>
                        </a:rPr>
                        <a:t>Национальным органам до 01.1</a:t>
                      </a:r>
                      <a:r>
                        <a:rPr b="1" lang="en-US" sz="1800" spc="-1" strike="noStrike">
                          <a:solidFill>
                            <a:srgbClr val="548dd4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548dd4"/>
                          </a:solidFill>
                          <a:latin typeface="Times New Roman"/>
                        </a:rPr>
                        <a:t>.2016 направить предложения в национальный орган Республики Казахстан для обобщения и последующего изменения и дополнения «дорожной карты» перспективного облика МГС как региональной организации на период 2016-2020 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6" name="Номер слайда 4"/>
          <p:cNvSpPr/>
          <p:nvPr/>
        </p:nvSpPr>
        <p:spPr>
          <a:xfrm>
            <a:off x="8459640" y="6473880"/>
            <a:ext cx="68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BEB0-58E9-4B39-A2A1-B7769FA8389F}" type="slidenum">
              <a:rPr b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4:17:58Z</dcterms:created>
  <dc:creator>client906_4</dc:creator>
  <dc:description/>
  <dc:language>en-US</dc:language>
  <cp:lastModifiedBy>client801_11</cp:lastModifiedBy>
  <cp:lastPrinted>2016-02-12T09:16:38Z</cp:lastPrinted>
  <dcterms:modified xsi:type="dcterms:W3CDTF">2016-10-28T12:14:36Z</dcterms:modified>
  <cp:revision>105</cp:revision>
  <dc:subject/>
  <dc:title>Презентация PowerPoint</dc:title>
</cp:coreProperties>
</file>